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5CDD-52F8-4D85-AF98-F2162970E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7F81-DF03-42F5-8D0D-83EBCD4B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CDA6-220B-4E20-B78B-DE518E2EF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37F4-D54B-459C-808A-ACE8C759A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2ABC-FE22-4141-9F1B-63ED20CEA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61F4-2A42-43A5-81DD-BEE35D3B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1E4E-25DC-4F89-A174-4EC9A7C1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49A6A-38C2-49F0-9C1A-EACDA1E5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2A5E-F933-46D0-BA60-3B60C96E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689F-4A2B-444C-8AFE-CFB2037A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AF98-1D44-453B-905A-10824CB0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525B-A681-41A3-9378-17C3BA15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5322-4D79-4EC3-BFDE-19D50580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9E88-3BC5-4921-8F7A-713A0CD4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77B77-3D8F-4D38-839D-41491763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7BE2A-B39D-486D-BF55-294E9A8CA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A390-448D-4B01-88DA-EAB0975E7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0DB2-07D8-45ED-A099-4DBD7525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D34D-DFA9-41FF-9BAA-2225D695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DBFF-F0B3-4660-BE40-E92D4838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39D5-B8EE-4B79-B998-472F6860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8CC9-35A2-4BE4-A693-8642C32D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540B-6697-41CA-8273-2C2AFC38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0D11-3142-40AF-8143-9EE9A0CD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3C67-B159-4271-8744-B4DF4F9654A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3102-0200-4BC3-8034-DBF684499DC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.mit.edu/invent/iow/colt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762120" y="609480"/>
            <a:ext cx="739116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lt Revolve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0" name=""/>
          <p:cNvSpPr/>
          <p:nvPr/>
        </p:nvSpPr>
        <p:spPr>
          <a:xfrm rot="12046800">
            <a:off x="3428280" y="4571280"/>
            <a:ext cx="525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58000" y="5105520"/>
            <a:ext cx="2286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B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Wednesday April 28,201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228600" y="54100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USIC,FREE PLAY MUSIC, HOLD ON BY A THREAD 5/710,WWW.FREEPLAYMUSIC.COM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Colt"/>
          <p:cNvPicPr/>
          <p:nvPr/>
        </p:nvPicPr>
        <p:blipFill>
          <a:blip r:embed="rId1"/>
          <a:stretch/>
        </p:blipFill>
        <p:spPr>
          <a:xfrm>
            <a:off x="0" y="266760"/>
            <a:ext cx="7162920" cy="43052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209680" y="5029200"/>
            <a:ext cx="601992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Lemelson MIT program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 Black"/>
              </a:rPr>
              <a:t>, Colt Revolver,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May 10,2010, </a:t>
            </a:r>
            <a:r>
              <a:rPr b="0" lang="en-US" sz="18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http://web.mit.edu/invent/iow/colt.html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revolver is 1 of many different pistols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t was the most popular back then with its sleek styl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t is close brethren to the .98 special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But the .98 special is a more later mod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ts very easy to reload push a side button and quickly slip the bullets into the chamber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s one is one of the first revolver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762120" y="685800"/>
            <a:ext cx="709596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Invention: colt revolver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ventor: Sam Col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am was born July 19, 1814 in Hartford,Conneticut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His father ran a small silk and woolens factory, and young Colt began  working very early among the machines and bolts of fabric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His dad taught him many different things about the industry system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am made this for one made reason and that was because he wanted to make sure there was a good gun for handling and easy to draw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7:21:32Z</dcterms:created>
  <dc:creator>install</dc:creator>
  <dc:description/>
  <dc:language>en-US</dc:language>
  <cp:lastModifiedBy>install</cp:lastModifiedBy>
  <dcterms:modified xsi:type="dcterms:W3CDTF">2010-05-12T17:35:04Z</dcterms:modified>
  <cp:revision>9</cp:revision>
  <dc:subject/>
  <dc:title>Slide 1</dc:title>
</cp:coreProperties>
</file>